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04F5-AD2D-4109-9B6D-9AB9F5DA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m is the separation of powers among the Federal government and th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B57-C6A6-4824-BD06-E5EB60F0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74C-ECE6-41E0-B247-97F4E8F3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56B-94E5-4E54-BA6B-4386A3D5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559-16B6-402E-9C0D-E11DC251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6DEA-3C2C-4884-9749-453F2B18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7492-BB31-4D04-84FF-4511C97A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A999-B120-48E4-BA65-25B39F66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F7BE-3BFB-4263-9D0D-09FEAFDB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72E6-4E7A-439A-9D85-BD8B8D0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4A57-3E47-4467-A930-3AB1764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C123-0A60-498D-83FD-8291EA5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F7A-F478-4B74-B2FC-377467C4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3DF-500F-48E1-A8B8-6430607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876F-57B6-428C-A876-093455A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68C-D39A-469E-B303-209D89E5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4B6-293E-477B-B421-FA3E8B62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679A-7850-4A14-A572-26A624DC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651-1A16-43AF-92B0-51A8D94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B53-9BF2-471E-A622-443C6C96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E1E-1361-4088-A219-53048135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A24-ED15-40FD-829C-24E6C07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F5F-2BB7-4308-A0CF-2C7F41B6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85F-FB0F-4FBB-B9B6-CEEF61A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29C-F15F-496A-B846-DA54923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E79-6E4B-48F6-A2A9-DAC19FF96F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78A-2ABB-4CE5-B23C-497167FE9F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ederalism: Powers Divide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ur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herent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belong to the national government because it is the nation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of a sovereign state in the world commun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national governments possess these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ort aliens, regulate immigration, acquire territ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57192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owers denied to the Federal Government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typ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e constit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ied becaus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il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ied becaus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deral sys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reserved to the St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th amendment; Pow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gran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National Governmen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deni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n forbid persons under 18 to marry without legal con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 Doctors, lawyers etc. to have a permit to work 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denied to the st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owers are denied to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n’t tax any agency or function of the 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te can’t deny a person of their life, liberty or property without due processes by law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current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urrent Powers: Power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tate and the National government possess and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powers make it possible for a federal system of government to fun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verview of the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States have a unitary form of government: an arrangement in which a central government creates local units of government for its own convenien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preme Law of the lan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ecause of the two levels of government which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operating over the same people at the same ti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 and application of the Supremacy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premacy Cla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rs expected there to be issues between the two powers, so they added this cla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ng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onstitution and laws and treaties of the United States are the “Supreme law of the Land” (Found in Article VI, Section 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hpin” of the constit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oins the Federal and St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vernments into one unit, a federal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provision in the constitution that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kes the complex federal system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pplication of the Supremacy Claus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preme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preme court applies this law to any conflicts that ari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1148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Federalism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separation of powers between the Federal Government and the State, each having its own pow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3276720"/>
            <a:ext cx="9143280" cy="2971080"/>
            <a:chOff x="0" y="3276720"/>
            <a:chExt cx="9143280" cy="2971080"/>
          </a:xfrm>
        </p:grpSpPr>
        <p:cxnSp>
          <p:nvCxnSpPr>
            <p:cNvPr id="164" name="_s50202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874120" y="3161520"/>
              <a:ext cx="594720" cy="32007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0201"/>
            <p:cNvCxnSpPr>
              <a:stCxn id="168" idx="0"/>
              <a:endCxn id="166" idx="2"/>
            </p:cNvCxnSpPr>
            <p:nvPr/>
          </p:nvCxnSpPr>
          <p:spPr>
            <a:xfrm flipV="1">
              <a:off x="4571280" y="4464720"/>
              <a:ext cx="3240" cy="594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0200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2673720" y="3161520"/>
              <a:ext cx="594720" cy="32007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6" name="_s50196"/>
            <p:cNvSpPr/>
            <p:nvPr/>
          </p:nvSpPr>
          <p:spPr>
            <a:xfrm>
              <a:off x="3200040" y="327672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Government Powe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0197"/>
            <p:cNvSpPr/>
            <p:nvPr/>
          </p:nvSpPr>
          <p:spPr>
            <a:xfrm>
              <a:off x="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Federal Governmen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0198"/>
            <p:cNvSpPr/>
            <p:nvPr/>
          </p:nvSpPr>
          <p:spPr>
            <a:xfrm>
              <a:off x="320004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Concurrent</a:t>
              </a: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Powe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0199"/>
            <p:cNvSpPr/>
            <p:nvPr/>
          </p:nvSpPr>
          <p:spPr>
            <a:xfrm>
              <a:off x="640044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State Powers</a:t>
              </a: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amples of the Supremacy claus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cCulloch  V. Maryla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irst use of the clause to settle dispute between national and stat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Fletcher V. Pe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irst use of the clause to hold a state law to be unconstitution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o Chose it?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4571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overnment Power Poses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threat to individual liber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cause of this, the government must b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restrain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viding governmental pow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revents its abus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 framer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the constitution added it i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ndment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 could they possibly create a new central government that would be strong enough to meet the needs of the day and would, at the same time, preserve the existing state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733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Why Federalism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te vs. National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local action in matters of local concer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Action in matters of wider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438280" cy="1695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2514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cessities vary from one state to another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Jersey: no self service gas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Dakota: Voters not required to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raska: unicameral Legisl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5 states do not impose general sales tax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0"/>
            <a:ext cx="8610480" cy="67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Federal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d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s denied to the fede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State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ed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s denied to th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Exclusive and Concurrent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of the Federal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elegated Powers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overnment only has the powers granted or delegated to it in the Constitu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pressed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lied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herent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pressed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umerated Pow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s delegated to the National Government in so many words, spelled out expressly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the constit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1 Sec. 8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lect taxes, coin money, declare w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2 sec. 2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wers to presi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ake treaties, act as commander in chief in armed forces etc.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mplied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stated in the constitution, but reasonabl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uggeste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by the expressed power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: prohibited racial discrimination in granting people access to restauran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Exclusive power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” : powers exercised only by the National Government and never the st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prevent things such as trade and coining money from becoming chaotic and impossi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14:21Z</dcterms:created>
  <dc:creator>Bob Fioramonti</dc:creator>
  <dc:description/>
  <dc:language>en-US</dc:language>
  <cp:lastModifiedBy>Bob Fioramonti</cp:lastModifiedBy>
  <dcterms:modified xsi:type="dcterms:W3CDTF">2009-10-29T02:37:47Z</dcterms:modified>
  <cp:revision>3</cp:revision>
  <dc:subject/>
  <dc:title>Slide 1</dc:title>
</cp:coreProperties>
</file>